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9D8-AEDB-4E13-8993-EEBADAE8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414-7D0A-41D2-91DE-D387402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889-91CF-4262-99F6-78A34BEA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56C-9169-4FAE-861E-5FF725C6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D1D-EC92-4352-AB50-49F1844F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88B-DC6B-4A03-8467-C6FE00C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E22-E555-4170-9380-CAE091D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57C-298E-4542-9AE6-5FC40F5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493-D156-4410-AA7A-81F3C8DE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862-C5DF-4187-92BA-4E2B159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DC1-F244-414B-9F21-A11CE1F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59B-79C1-45AA-AA87-F08681E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10DB-5000-43CF-878E-C4067526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at Depr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economic down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rt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, mining, and logging were hurt the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in the 1930s and 19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s in banks uninsured people lost savings when banks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rash happened people bought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ax created less trade with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ought made it harder to grow crops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12:38:53Z</dcterms:created>
  <dc:creator>Yarmouth Schools</dc:creator>
  <dc:description/>
  <dc:language>en-US</dc:language>
  <cp:lastModifiedBy>YHS Teacher</cp:lastModifiedBy>
  <dcterms:modified xsi:type="dcterms:W3CDTF">2009-06-16T00:44:08Z</dcterms:modified>
  <cp:revision>3</cp:revision>
  <dc:subject/>
  <dc:title>Great Depression</dc:title>
</cp:coreProperties>
</file>